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F47-8C27-4476-B8F8-2B255DBE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079-EF06-4FFD-A572-8A7D4AF0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581-565B-476F-9D76-188D5A87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3F5-2351-4010-A489-2EE82318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2C2-6C24-46F3-A42D-C393EB37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6D8-C95E-4F3F-88B3-3A2C11A2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2E1-54F8-4570-97D1-607C64D0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9D2-5375-4CC7-9FC6-ED7251F2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E2FA-0412-4899-852E-2C77CFA3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5E0-40B7-4179-8430-464FFDA5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DAA6-2346-4F3D-BDA0-DEFA6B01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34A-59B2-482E-A09A-A85987E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6992-A93C-4C51-AF79-1DF8B2618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37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flipV="1">
            <a:off x="2590920" y="2971800"/>
            <a:ext cx="1295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2057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y destin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3352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ource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151920" y="151920"/>
            <a:ext cx="350532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5909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user function in the Full.vee that I want to read data 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514240" y="2666520"/>
            <a:ext cx="10666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80880" y="761760"/>
            <a:ext cx="533520" cy="4343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116680"/>
            <a:ext cx="7848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this is the user function that I have created  in the blowp.vee to read data from the user function  “check” that does exist in theFull.v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at I tried to make set variable inside the check and Get variable in my new user function to continue but it doesn’t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3:01:10Z</dcterms:created>
  <dc:creator>za04499</dc:creator>
  <dc:description/>
  <dc:language>en-US</dc:language>
  <cp:lastModifiedBy>za04499</cp:lastModifiedBy>
  <dcterms:modified xsi:type="dcterms:W3CDTF">2009-02-02T13:03:31Z</dcterms:modified>
  <cp:revision>3</cp:revision>
  <dc:subject/>
  <dc:title>Slide 1</dc:title>
</cp:coreProperties>
</file>