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7EF-D49D-4046-9883-2A3727A9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843-B512-4E13-AA1A-CAB4EBA5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EBC-C2B2-45A1-9162-558DBEC3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1799-5143-4A9F-A901-E7F5D7B1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005-8C51-49CC-AF28-AEDE71F8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BC5-06AE-426F-8DD9-3A9EA0F6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B9F-926F-4567-9BB2-D4D94F38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CFC-9608-4F46-BD3C-1182A558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E1C-2D91-48DC-AD0B-DCD023D0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87C-01A2-454A-B02D-ABDFBB5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22C-A6A6-45DF-9B9F-3A96A583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C97-A3BE-43A7-A849-0DF3CF77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1345-8039-43D9-9E96-0C2522236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-1204920"/>
            <a:ext cx="8686800" cy="82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40:37Z</dcterms:created>
  <dc:creator>usb09202</dc:creator>
  <dc:description/>
  <dc:language>en-US</dc:language>
  <cp:lastModifiedBy>usb09202</cp:lastModifiedBy>
  <dcterms:modified xsi:type="dcterms:W3CDTF">2009-12-02T19:41:14Z</dcterms:modified>
  <cp:revision>1</cp:revision>
  <dc:subject/>
  <dc:title>Slide 1</dc:title>
</cp:coreProperties>
</file>