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C73-80F8-416E-AA69-5E5EFA9B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A81-ADD6-4979-9409-79DB0376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DEB-993E-467E-A5EE-983292B0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41D-8771-4F22-8F48-372B1F96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ADD7-9225-418A-BAF1-D739B50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EE6-E006-47D9-9677-24C75543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898-2242-45EF-8865-8A0CA55A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AF2-AEBC-4CE3-A5C8-AD56FB2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1AB-B503-4F62-B058-DA9827F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F09-8358-41C3-A7AD-0629C49C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30F-C538-4EA2-AA75-27E3979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50D-3DE2-494D-8965-F9F446C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3A1-C5A9-48AF-A7BF-FC22809AF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152280"/>
          <a:ext cx="526896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280"/>
                    <a:ext cx="52689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4876920"/>
          <a:ext cx="5095800" cy="40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876920"/>
                    <a:ext cx="50958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1:44:51Z</dcterms:created>
  <dc:creator>TEMIC</dc:creator>
  <dc:description/>
  <dc:language>en-US</dc:language>
  <cp:lastModifiedBy>TEMIC</cp:lastModifiedBy>
  <dcterms:modified xsi:type="dcterms:W3CDTF">2003-03-28T11:45:30Z</dcterms:modified>
  <cp:revision>1</cp:revision>
  <dc:subject/>
  <dc:title>PowerPoint Presentation</dc:title>
</cp:coreProperties>
</file>