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970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372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970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372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959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" name=""/>
          <p:cNvSpPr/>
          <p:nvPr/>
        </p:nvSpPr>
        <p:spPr>
          <a:xfrm>
            <a:off x="7772400" y="6124680"/>
            <a:ext cx="172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1" marL="666720" indent="-19512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SzPct val="75000"/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2" marL="1147680" indent="-19512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SzPct val="75000"/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3" marL="1805040" indent="-277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228600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228600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2286000" indent="-281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Nokia Sans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j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Courier Ne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Davs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0T13:04:55Z</dcterms:created>
  <dc:creator>liversen</dc:creator>
  <dc:description>Nokia Standard Presentation Template - A4
v. 6 2002/06/12 Juhani Pitkänen
Nokia Corporate Fonts
Provided by: NBI\IMS\ITP\CP\Office Platforms
NBI Owner:  Eric Beasley</dc:description>
  <dc:language>en-US</dc:language>
  <cp:lastModifiedBy>liversen</cp:lastModifiedBy>
  <cp:lastPrinted>2000-03-20T15:35:04Z</cp:lastPrinted>
  <dcterms:modified xsi:type="dcterms:W3CDTF">2003-01-10T14:53:23Z</dcterms:modified>
  <cp:revision>3</cp:revision>
  <dc:subject/>
  <dc:title>1</dc:title>
</cp:coreProperties>
</file>