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C91-4366-4401-AFAB-A71171D4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D20-2DF5-41C6-A4AE-B1F032BD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F19-39AC-4844-BA5C-4B668A5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F3D-552A-40B0-8191-79E2B636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EC1-C48F-4DF6-A9D3-65F48DFC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E7A-35DF-4027-8C8A-5D622138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2C8-F24D-47F3-9C00-1B087F5E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841-6B92-41C9-991A-F699D635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A5B-D7F5-457E-96AA-D62A8448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A6AF-4DDC-44E3-BFDC-DFA60DAD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354-CD49-47CC-9DDE-484E4BB2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6FF3-460D-4EE3-9071-3C819C7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296F-CF18-4DB9-8F28-39F96374C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37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flipV="1">
            <a:off x="2590920" y="2971800"/>
            <a:ext cx="129528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2057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y destination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3352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source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151920" y="151920"/>
            <a:ext cx="350532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5909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user function in the Full.vee that I want to read data 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514240" y="2666520"/>
            <a:ext cx="10666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80880" y="761760"/>
            <a:ext cx="533520" cy="4343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5116680"/>
            <a:ext cx="7848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this is the user function that I have created  in the blowp.vee to read data from the user function  “check” that does exist in theFull.v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at I tried to make set variable inside the check and Get variable in my new user function to continue but it doesn’t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3:01:10Z</dcterms:created>
  <dc:creator>za04499</dc:creator>
  <dc:description/>
  <dc:language>en-US</dc:language>
  <cp:lastModifiedBy>za04499</cp:lastModifiedBy>
  <dcterms:modified xsi:type="dcterms:W3CDTF">2009-02-02T13:03:31Z</dcterms:modified>
  <cp:revision>3</cp:revision>
  <dc:subject/>
  <dc:title>Slide 1</dc:title>
</cp:coreProperties>
</file>