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0D4-D35A-4343-A6B1-81880994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C62-7420-408C-BED2-F4A4ED9F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DDC-6D46-42FB-B2BD-8F0B89B7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6F9-E13D-4590-AB78-4131E9E4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ABB-180F-4358-9278-BC7C54F7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785-F908-4531-8126-B0666544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EF4-2EDB-4355-87AD-736E7A19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551-FA28-4D6D-81E9-6705E845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F701-2E73-45F6-8A74-D42DEECF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883-9A3A-48A9-A48E-8899CDE5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3A5-EBD7-4DEE-8BB2-719E4E04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5D9-967F-423E-83A1-8AB477ED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6B4-2B3A-425D-8769-A5DCAA2DE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-1204920"/>
            <a:ext cx="8686800" cy="82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40:37Z</dcterms:created>
  <dc:creator>usb09202</dc:creator>
  <dc:description/>
  <dc:language>en-US</dc:language>
  <cp:lastModifiedBy>usb09202</cp:lastModifiedBy>
  <dcterms:modified xsi:type="dcterms:W3CDTF">2009-12-02T19:41:14Z</dcterms:modified>
  <cp:revision>1</cp:revision>
  <dc:subject/>
  <dc:title>Slide 1</dc:title>
</cp:coreProperties>
</file>