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5C2-8721-4B88-98CC-DA2B9889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662-4CC2-4E7F-973B-9ADA291E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3BF-896A-4EB3-B8B0-68C62218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FC1-30E6-46D7-AE09-C65E30B0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098-924D-408E-93FE-D56B19E4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D10-041D-46EA-8187-C30D0736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3FC8-3E56-4612-8801-B805A79F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9D6-06D4-4E50-9AE7-34D5A227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7E0-F6A7-4BBC-A6D0-EF5C5C9D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4AC-0536-4B8C-AF1F-9D9D59DB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696-B94B-4219-B432-7B77F8B9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BF9-0895-4D61-B094-45949E70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537D-793C-480A-8EE3-677A5BA55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152280"/>
          <a:ext cx="5268960" cy="49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280"/>
                    <a:ext cx="526896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4876920"/>
          <a:ext cx="5095800" cy="40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876920"/>
                    <a:ext cx="509580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1:44:51Z</dcterms:created>
  <dc:creator>TEMIC</dc:creator>
  <dc:description/>
  <dc:language>en-US</dc:language>
  <cp:lastModifiedBy>TEMIC</cp:lastModifiedBy>
  <dcterms:modified xsi:type="dcterms:W3CDTF">2003-03-28T11:45:30Z</dcterms:modified>
  <cp:revision>1</cp:revision>
  <dc:subject/>
  <dc:title>PowerPoint Presentation</dc:title>
</cp:coreProperties>
</file>